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52E3-AE6A-4862-A860-6DA4206A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60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1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7C1-CA08-4682-A366-1E90869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011-E6BB-4805-BF27-81D088B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EEF-DA56-4186-91F4-29FD9AA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985-FFA2-467F-B639-D6DA9CDC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1F2-D485-48AD-8D28-73BBB6D6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B5C-0FE6-4ED9-8E5B-72DB114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578-3E48-45D2-9A44-DEE6ED1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C56-5DE4-4D70-B713-0CD7FDBD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B2E-EFDD-431F-8122-CC6D857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956-1AD0-4278-8446-2DB13F9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0ED-B532-4904-A489-56A33D31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911-3515-46C0-BAA6-6D50C99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8B3-3A96-4158-ACD7-21310FAE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 Small Cap"/>
              </a:rPr>
              <a:t>Engine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j Dubai in United Arab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2008-10-26_burjdubai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579320" cy="5943600"/>
          </a:xfrm>
          <a:prstGeom prst="rect">
            <a:avLst/>
          </a:prstGeom>
          <a:ln w="0">
            <a:noFill/>
          </a:ln>
        </p:spPr>
      </p:pic>
      <p:pic>
        <p:nvPicPr>
          <p:cNvPr id="74" name="BurjDubaiHeight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361040" cy="3109680"/>
          </a:xfrm>
          <a:prstGeom prst="rect">
            <a:avLst/>
          </a:prstGeom>
          <a:ln w="0">
            <a:noFill/>
          </a:ln>
        </p:spPr>
      </p:pic>
      <p:pic>
        <p:nvPicPr>
          <p:cNvPr id="75" name="LocationUnitedArabEmirates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14600" y="52578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684 feet t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s are 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s have differen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ineers use what they know about the properties of solids to build usefu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809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 Small Cap"/>
              </a:rPr>
              <a:t>To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l’s Tower in Wy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49400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ffel Tower in Paris,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720" y="1486080"/>
            <a:ext cx="3666960" cy="5143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10160" y="1476360"/>
            <a:ext cx="3695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ycksele Tower in Sw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3040" y="1295280"/>
            <a:ext cx="3664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ning Tower of Pisa,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6864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N Tower in Toronto,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16080" y="1447920"/>
            <a:ext cx="3451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s Tower i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1433520"/>
            <a:ext cx="415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42:52Z</dcterms:created>
  <dc:creator> </dc:creator>
  <dc:description/>
  <dc:language>en-US</dc:language>
  <cp:lastModifiedBy>Charlie Swor</cp:lastModifiedBy>
  <dcterms:modified xsi:type="dcterms:W3CDTF">2009-02-05T00:27:40Z</dcterms:modified>
  <cp:revision>5</cp:revision>
  <dc:subject/>
  <dc:title>Towers</dc:title>
</cp:coreProperties>
</file>